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EB1-71BA-473B-85A8-CA6AA6E2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6CA-86D9-442C-B36F-05ED69AA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ED5-4481-432D-95A3-0C76A8F4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D1B-57F1-4F7C-B5EF-9F160115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1DE8-4662-4F38-BAEA-C89BCAD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54EF-B446-4A02-BA37-74EE42AA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9B5E-2215-49B7-9D2E-935DA4A9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3392-4560-4351-949C-18EA5462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B74-BED7-47B2-AA50-4602F09E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DFA7-3AFF-439B-811B-AB9F07D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8A5F-8129-451D-9B0C-6FD7074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BE1-69DF-44DC-9237-AF0B0917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58B-07E8-4E5A-8CF8-C83A521C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48FB-1393-4335-8282-D7742E3F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228A-8ED9-4F65-95DB-865DC1DC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0B57-AFF8-4FC8-AB3F-61107BAD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D745-A697-42B8-920A-377A067B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463-9D6C-4A75-8F22-70CF445A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B67-AB55-4974-BCB2-C4D43303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836-055C-4D23-A362-D559416A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E18-B7A6-4672-A74D-E18B8B4D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B58-84D2-4206-B5AA-1280970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EE1-A6BE-4072-B283-BF90D1A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9D3-8293-4F01-BD28-07D5EC34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A94D-5C9C-4C04-A996-F8AC446F4D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0276-E909-4C24-8143-BB8BB0A79C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appy Tuesday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86000" y="3200400"/>
            <a:ext cx="640080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your new sea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out your Letter To The Editor packet (DO NOT TURN IN YE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 for Toda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onal revisions due Thursday for Letter to the Editor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possibly watching video today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rt with 5 minute group check-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ck Market Graphs &amp; Q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YOU ARE WORKING WELL for 45 minutes– we will finish class with a movie about the suffrage mo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HOMEWOR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ue Thurs:  31.3 Fascism notes (in packet), revised Letter to the Ed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F ABSENT THURS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ish pack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 for Toda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5 minutes end of film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ron-Jawed Ang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PTION FOR LETTER TO 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HE EDITO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se and turn in THURSDA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you will have some notes du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urs. als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include notes from vide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 a closer look at your packet with the timeline and reading… think: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“Why were women fighting so hard for this right to vote?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84800" y="343080"/>
            <a:ext cx="28828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e Thurs: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1.3 Fascism notes (in packe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sed Letter to the Editor (option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ck Market graphs &amp; Q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F ABSENT THURS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ish packet and Stock Market graphs &amp; Q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3:58:43Z</dcterms:created>
  <dc:creator>MCPASD</dc:creator>
  <dc:description/>
  <dc:language>en-US</dc:language>
  <cp:lastModifiedBy>MCPASD</cp:lastModifiedBy>
  <dcterms:modified xsi:type="dcterms:W3CDTF">2012-03-13T18:24:17Z</dcterms:modified>
  <cp:revision>3</cp:revision>
  <dc:subject/>
  <dc:title>Happy Tuesday!</dc:title>
</cp:coreProperties>
</file>